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E76E9-4D77-4E3D-B6B6-8C60C6F53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FCD3F-C81D-4295-95A2-7D9027DAF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3A1C3-15BB-475D-A60E-00AEF417F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4788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6076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03464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4788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6076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A5431-BDF2-474A-82BE-5A08699E8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AED8F-2567-4FA1-9CAC-90F5F0D74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E63E7-FC96-4E14-AD1B-1B708BE9A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F8F44-AF5C-4AD2-92FB-870F6BB08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6A155-23EF-422C-80B7-1241A6343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A2E89-5CE0-4698-A3FA-DB837B871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990720" y="304920"/>
            <a:ext cx="77724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95317-F876-4780-932B-8C4EEFC47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5D385-9A47-4519-BB56-6476DF298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0E62E-1FCC-413C-8545-90CEAD6FC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C7BB4-3251-4DA9-99DE-BC09EB73F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46FF9-82E1-46C4-80C5-864260D95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BD55F-2F26-4D7F-BB09-860156400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0549A-6D34-498B-BFE3-5837D88D8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4788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6076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03464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4788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6076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BDD51-4930-4060-BA5D-C1FAA2907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A2A9B-1DAE-4536-B8F9-F782614B0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050CE-65C9-4DCB-998F-17286FE37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9A93C-3013-4A4E-9405-DB11DCE6E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90720" y="304920"/>
            <a:ext cx="77724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2C615-4FC7-42DE-9E39-C9A49FC8E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AE618-33B5-448B-A6B4-BE6AAF70A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37B16-AC2E-4417-B215-04F649BCB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79BE7-23E3-44F2-80ED-D301EEA14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>
            <a:alphaModFix amt="40000"/>
          </a:blip>
          <a:stretch/>
        </p:blipFill>
        <p:spPr>
          <a:xfrm>
            <a:off x="7315200" y="5510160"/>
            <a:ext cx="1828800" cy="13478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808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5D96D-EE1B-4FB0-8789-B259D07672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8440" y="2967120"/>
            <a:ext cx="8026560" cy="0"/>
          </a:xfrm>
          <a:prstGeom prst="line">
            <a:avLst/>
          </a:prstGeom>
          <a:ln w="507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1479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0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A6059-1AAD-46A5-BF24-DB336A6BD2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hyperlink" Target="http://sourceforge.net/" TargetMode="External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5640" y="914400"/>
            <a:ext cx="6095880" cy="160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Times New Roman"/>
              </a:rPr>
              <a:t>GBrowse: Generic Genome Browser</a:t>
            </a: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3886200"/>
            <a:ext cx="73152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May 2003 Update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Lincoln Stein, CSH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914400"/>
            <a:ext cx="2133720" cy="157320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289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808080"/>
                </a:solidFill>
                <a:latin typeface="comic"/>
              </a:rPr>
              <a:t>Coming real soon now</a:t>
            </a:r>
            <a:endParaRPr b="0" lang="en-US" sz="80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Times New Roman"/>
              </a:rPr>
              <a:t>Synteny Browser</a:t>
            </a: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1726" t="26410" r="2073" b="11776"/>
          <a:stretch/>
        </p:blipFill>
        <p:spPr>
          <a:xfrm>
            <a:off x="228600" y="1752480"/>
            <a:ext cx="8769240" cy="43927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rcRect l="2350" t="15911" r="4024" b="9518"/>
          <a:stretch/>
        </p:blipFill>
        <p:spPr>
          <a:xfrm>
            <a:off x="380880" y="1523880"/>
            <a:ext cx="8534520" cy="533412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Times New Roman"/>
              </a:rPr>
              <a:t>Feature Filtering &amp; Coloring</a:t>
            </a: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Filtering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Limit feature displays to those matching selected attributes.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Coloring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Color background of features matching selected attributes.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Times New Roman"/>
              </a:rPr>
              <a:t>Remote Annotation</a:t>
            </a: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Full DAS Support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Multiple databases merged into one display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Multiple database types merged onto display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Local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Remote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Flat file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Relational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Times New Roman"/>
              </a:rPr>
              <a:t>Credits</a:t>
            </a: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850040" y="1523880"/>
            <a:ext cx="2332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entury Schoolbook"/>
              </a:rPr>
              <a:t>CSH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huly Avraha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cott Ca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898640" y="2895480"/>
            <a:ext cx="257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entury Schoolbook"/>
              </a:rPr>
              <a:t>BDG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hris Mungal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hengQiang Sh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7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47720" y="5938920"/>
            <a:ext cx="1523880" cy="5364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3071520" y="5973840"/>
            <a:ext cx="435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stellar"/>
              </a:rPr>
              <a:t>http://www.gmod.or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1523880"/>
            <a:ext cx="223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entury Schoolbook"/>
              </a:rPr>
              <a:t>IS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Paul Edelfs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Robert Huble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892880" y="4375080"/>
            <a:ext cx="237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entury Schoolbook"/>
              </a:rPr>
              <a:t>HGMP-RC Fug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hawn Ho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186520" y="2927520"/>
            <a:ext cx="2209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entury Schoolbook"/>
              </a:rPr>
              <a:t>Elsewhe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Marc Colisim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Marc Loggh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808080"/>
                </a:solidFill>
                <a:latin typeface="comic"/>
              </a:rPr>
              <a:t>New Features</a:t>
            </a:r>
            <a:endParaRPr b="0" lang="en-US" sz="80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Times New Roman"/>
              </a:rPr>
              <a:t>Database Adaptors</a:t>
            </a: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Bio::DB::GFF Schema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MySQL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PostgreSQL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Oracle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Text file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Chado Schema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PostgreSQL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BioSQL Schema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MySQL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EMBL Proxy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Times New Roman"/>
              </a:rPr>
              <a:t>Multiple Alignment Display</a:t>
            </a: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2056" t="20835" r="2941" b="14584"/>
          <a:stretch/>
        </p:blipFill>
        <p:spPr>
          <a:xfrm>
            <a:off x="685800" y="1676520"/>
            <a:ext cx="8153280" cy="47242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rcRect l="2056" t="17742" r="2056" b="18819"/>
          <a:stretch/>
        </p:blipFill>
        <p:spPr>
          <a:xfrm>
            <a:off x="685800" y="1676520"/>
            <a:ext cx="8229600" cy="44956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rcRect l="2056" t="17742" r="2941" b="12367"/>
          <a:stretch/>
        </p:blipFill>
        <p:spPr>
          <a:xfrm>
            <a:off x="685800" y="1676520"/>
            <a:ext cx="8153280" cy="495288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Times New Roman"/>
              </a:rPr>
              <a:t>Histograms &amp; XY Plots</a:t>
            </a: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685800" y="2133720"/>
            <a:ext cx="7620120" cy="246672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Times New Roman"/>
              </a:rPr>
              <a:t>Configurable Overview</a:t>
            </a: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945" t="28889" r="2830" b="13638"/>
          <a:stretch/>
        </p:blipFill>
        <p:spPr>
          <a:xfrm>
            <a:off x="609480" y="1905120"/>
            <a:ext cx="7772400" cy="373356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Times New Roman"/>
              </a:rPr>
              <a:t>Flip Coordinates</a:t>
            </a: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2405" t="28555" r="2752" b="24645"/>
          <a:stretch/>
        </p:blipFill>
        <p:spPr>
          <a:xfrm>
            <a:off x="233280" y="1897200"/>
            <a:ext cx="8645760" cy="33429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rcRect l="2334" t="31069" r="2910" b="19112"/>
          <a:stretch/>
        </p:blipFill>
        <p:spPr>
          <a:xfrm>
            <a:off x="228600" y="1905120"/>
            <a:ext cx="8637480" cy="355896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" dur="5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Times New Roman"/>
              </a:rPr>
              <a:t>Plugin Layer for Gene Predictors</a:t>
            </a: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rcRect l="2941" t="17742" r="3831" b="13444"/>
          <a:stretch/>
        </p:blipFill>
        <p:spPr>
          <a:xfrm>
            <a:off x="762120" y="1600200"/>
            <a:ext cx="8001000" cy="487692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Times New Roman"/>
              </a:rPr>
              <a:t>Lots of New Glyphs</a:t>
            </a:r>
            <a:r>
              <a:rPr b="0" lang="en-US" sz="4400" spc="-1" strike="noStrike">
                <a:solidFill>
                  <a:srgbClr val="80808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plice acceptor/donor glyph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Microarray red/green box glyph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Cytogenetic band glyph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X/Y graph glyph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02T22:16:36Z</dcterms:created>
  <dc:creator>Authorized User</dc:creator>
  <dc:description/>
  <dc:language>en-US</dc:language>
  <cp:lastModifiedBy>Lincoln Stein</cp:lastModifiedBy>
  <cp:lastPrinted>1998-10-28T21:29:29Z</cp:lastPrinted>
  <dcterms:modified xsi:type="dcterms:W3CDTF">2003-05-06T11:16:38Z</dcterms:modified>
  <cp:revision>534</cp:revision>
  <dc:subject/>
  <dc:title>Training</dc:title>
</cp:coreProperties>
</file>